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A7E-6AF2-4482-8577-43548D7C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C21-1286-495D-B30E-AE56F8BA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AC5-BCD5-423F-8677-A10A4D97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75C-6D8D-488C-98CC-55A30939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F08-C116-4845-AE71-78FB052B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951C-A783-4D3B-B150-29207133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131F-AAA5-4762-9D76-C0A39218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CB9F-ADAD-4EDB-B600-5A6E65EE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2209-9074-43A9-A65B-720F94FB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77DE-22FA-4D6F-90D7-3821C8CD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A161-445B-416D-BF6C-756F4AF2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555-DF85-48DB-B916-DB858ED7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D9FA-FBD7-4265-9CB7-4020C59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AC74-02A6-4BBA-A04C-3C606507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B55F-85B9-454E-A768-CC3C14B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7244-AE02-4943-8470-8B5D7B76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D9B0-2432-457F-9B10-F1777966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0D1-A8E5-4D7B-A1AF-B1A0AD34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4A9-4FDB-4E2D-BF5C-2D6089C1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1D5-DCDF-4E2C-A5C6-4BBA404C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A3B-3FA1-4B4E-B8B9-1220C7A6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ABB-D5B4-48D6-B360-C54F123D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11E-A952-4CDE-800A-E1237953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47B-AECB-4EAA-B31F-155EBEF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6AB6-B2FA-45D9-9113-E6C2DFF7C4EF}" type="slidenum">
              <a:rPr b="0" lang="pl-P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240A-681E-4EA0-8C62-BCE2A72FB736}" type="slidenum">
              <a:rPr b="0" lang="pl-P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różnice i proble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Stosowanie języka haseł przedmiotowych Biblioteki Narodowej w Bibliotece Sejmowej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Słownictwo jhp BS, cd.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W początkowym okresie stosowania 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Słownika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jhp BN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odczuwane były, w znacznie większym stopniu niż obecnie, pewne braki szczegółowych tematów z dziedziny prawa, parlamentaryzmu, polityki oraz ekonomii i współpraca z BN w zakresie ich tworzenia była bardzo intensyw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Tematy przekazywane do BN w celu akceptacji zapisywane są w polu 610, z którego tworzona jest kartoteka robocza TNO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Tematy zawarte w 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Słowniku jhp BN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zapisywanie są w pozostałych polach 6XX, z których tworzona jest kartoteka HP – hasła przedmiotowe wszystk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Słownictwo jhp BS, c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Tematy zgłoszone do B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Przewodnictwo Radzie UE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Głosowanie elektroniczne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Wybór publicz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Tematy wykorzystane przez B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Kampania wyborcza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Pieniądz elektroniczny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Odpowiedzialność za produkt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Umowa elektroniczna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Euroobligacje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Delokalizacja (ekon.)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 Skazanie bez rozprawy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Upadłość konsumencka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Czynny żal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Rozwiązanie parlamen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Słownictwo jhp BS, c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Tematy nie akceptowane przez BN, a mimo to stosowane przez B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Zgromadzenie posłów i senatorów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Uznanie zagranicznych orzeczeń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Wyłączenie sędziego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Immunitet państwa, Dzienniki urzędowe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(z przymiotnikiem charakteryzującym cechy państwowe dokumentu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Słownictwo jhp BS, c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Tematy wielowyrazowe z „a” zapisywane są jako jedna jednostka leksykalna, którą można traktować jako analogiczną do tematów wielowyrazowych z „i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Różni nas to od jhp BN, w którym spójnik „a” poprzedzony jest myślnikiem, co czyni następującą po nim część określnikiem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Słownictwo jhp BS, c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Różnice występują  także w formie tematów jednostkowych, takich jak tematy korporatywne i tematy – tytuły ujednolic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W nazwach organizacji międzynarodowych stosujemy formę przyjętą przez tezaurus, np.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Bank Światowy 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(a nie 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Międzynarodowy Bank Odbudowy i Rozwoju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IMF 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(a nie 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Międzynarodowy Fundusz Walutowy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ILO 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(a nie 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Międzynarodowa Organizacja Pracy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Słownictwo jhp BS, c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Ciała zbiorowe krajowe opisywane są zgodnie z normą, nieliczne wyjątki uczyniono dl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- partii polityczny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- ministerstw oraz urzędów centralny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Odnośnie do tematów–tytułów ujednoliconych, to w tej grupie wprowadzamy w znacznie szerszym zakresie tytuły umów międzynarodowych w formie stosowanej w Dzienniku Ustaw R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Słownictwo jhp BS, c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Określniki formalne stosowane w BS są zgodne ze słownikiem jhp BN. Wyjątki: 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teksty i komentarze</a:t>
            </a: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kode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Przykłady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Prawo karne – Polska – teksty – kode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Garamond"/>
              </a:rPr>
              <a:t>Prawo pracy – Francja – teksty i komentarze - kode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Określniki chronologiczne stosowane są w węższym zakresie niż pozwala na to jhp B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Adaptacja jhp BN w Bibliotece Sejmowej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Różnice metodyczne :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bardziej szczegółowe indeksowanie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prawo, zwłaszcza – państwowe, parlamentarne, administracyjne, międzynarodow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umowy międzynarodowe, w tym konwencje Rady Euro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biografie parlamentarzystó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Adaptacja jhp BN w Bibliotece Sejmowej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Różnice metodyczne : 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umowy międzynarodowe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Szczepanowska-Kozłowska Krystyna: Patent europejski: przedmiotowy zakres ochrony, Warszawa 199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 u="sng">
                <a:solidFill>
                  <a:srgbClr val="ffffff"/>
                </a:solidFill>
                <a:uFillTx/>
                <a:latin typeface="Garamond"/>
              </a:rPr>
              <a:t>Jhp B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atenty – prawo wspólnotowe europejsk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 u="sng">
                <a:solidFill>
                  <a:srgbClr val="ffffff"/>
                </a:solidFill>
                <a:uFillTx/>
                <a:latin typeface="Garamond"/>
              </a:rPr>
              <a:t>Jhp B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atenty – prawo wspólnotowe europejsk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Umowy międzynarodowe – Europa – od 1945 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Konwencja o udzielaniu patentów europejskich (197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Adaptacja jhp BN w Bibliotece Sejmowej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Różnice metodyczne :</a:t>
            </a: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2800"/>
            </a:b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umowy międzynarodowe, cd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Prawo międzynarodowe publiczne: wybór dokumentów. Oprac. Anna Przyborowska-Klimczak, Lublin 199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 u="sng">
                <a:solidFill>
                  <a:srgbClr val="ffffff"/>
                </a:solidFill>
                <a:uFillTx/>
                <a:latin typeface="Garamond"/>
              </a:rPr>
              <a:t>Jhp B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rawo międzynarodowe – źródł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 u="sng">
                <a:solidFill>
                  <a:srgbClr val="ffffff"/>
                </a:solidFill>
                <a:uFillTx/>
                <a:latin typeface="Garamond"/>
              </a:rPr>
              <a:t>Jhp BS</a:t>
            </a:r>
            <a:r>
              <a:rPr b="0" i="1" lang="pl-PL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rawa człowieka - prawo międzynarodowe – teks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Sukcesja państw – teks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Umowy międzynarodowe - 20 w. - teks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ONZ – prawo - teks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Biblioteka parlamentar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Naukowa biblioteka prawnicz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Celem Biblioteki jest zaspokajanie potrzeb Sejmu i Senatu, klubów parlamentarnych, kół poselskich, posłów i senatorów, służb badawczych, zaplecza doradczego, a także pozostałych pracowników. Ze zbiorów mogą również korzystać pracownicy nauki, urzędów i instytucji centralnych oraz wszyscy zainteresowa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Biblioteka Sejmow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Adaptacja jhp BN w Bibliotece Sejmowej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Różnice metodyczne : 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Konwencje Rady Europy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Saudre Frederic: Konwencja o ochronie praw człowieka i podstawowych wolności, Warszawa 199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 u="sng">
                <a:solidFill>
                  <a:srgbClr val="ffffff"/>
                </a:solidFill>
                <a:uFillTx/>
                <a:latin typeface="Garamond"/>
              </a:rPr>
              <a:t>Jhp B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rawa człowieka – prawo międzynarodowe – Euro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 u="sng">
                <a:solidFill>
                  <a:srgbClr val="ffffff"/>
                </a:solidFill>
                <a:uFillTx/>
                <a:latin typeface="Garamond"/>
              </a:rPr>
              <a:t>Jhp B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rawa człowieka – prawo międzynarodowe – Europ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Umowy międzynarodowe – Europa – od 1945 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Rada Europy – Konwencja nr 50 195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Europejska konwencja praw człowieka (195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Adaptacja jhp BN w Bibliotece Sejmowej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Różnice metodyczne : 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Konwencje Rady Europy, cd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72 1998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73 1999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74 1999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75 2000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76 2000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77 2000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78 2001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80 2001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2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83 2001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[...]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92 2003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96 2005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97 2005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98 2005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199 2005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200 2006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Garamond"/>
              </a:rPr>
              <a:t>Rada Europy - Konwencja nr 201 2007 r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Adaptacja jhp BN w Bibliotece Sejmowej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Różnice metodyczne :</a:t>
            </a:r>
            <a:br>
              <a:rPr sz="3200"/>
            </a:br>
            <a:r>
              <a:rPr b="1" lang="pl-PL" sz="3200" spc="-1" strike="noStrike">
                <a:solidFill>
                  <a:srgbClr val="b9efee"/>
                </a:solidFill>
                <a:latin typeface="Garamond"/>
              </a:rPr>
              <a:t>Biografie parlamentarzystów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Giza Stanisław: Jan Dąbski: całe życie dla ludu, Warszawa 197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Garamond"/>
              </a:rPr>
              <a:t>Jhp B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Ruchy i organizacje chłopskie – Polska – 1901-1939 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Dąbski Jan (1880-1931) – biograf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Partie polityczne – Polska - 1901-1939 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Polska – polityka – 1901-1939 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Garamond"/>
              </a:rPr>
              <a:t>Jhp B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Ruchy i organizacje chłopskie – Polska – 1901-1939 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Parlamentarzyści – biografie – Polska -1918-1939 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Dąbski Jan (1880-1931) – biograf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Partie polityczne – Polska - 1901-1939 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Polska – polityka – 1901-1939 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Garamond"/>
              </a:rPr>
              <a:t>Sejm – biografie – 1918-1939 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Wzorce indeksowania w jhp BS</a:t>
            </a:r>
            <a:br>
              <a:rPr sz="2800"/>
            </a:b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dla dokumentów charakterystycznych dla BS: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uroczyste posiedzenia Sejmu i Sena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opracowania Kancelarii Sejmu dotyczące budżetu państwowe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sprawozdania Najwyższej Izby Kontro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wydawnictwa urzędow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b9efee"/>
                </a:solidFill>
                <a:latin typeface="Garamond"/>
              </a:rPr>
              <a:t>Wzorce indeksowania w jhp BS:</a:t>
            </a:r>
            <a:br>
              <a:rPr sz="3600"/>
            </a:br>
            <a:r>
              <a:rPr b="1" lang="pl-PL" sz="3600" spc="-1" strike="noStrike">
                <a:solidFill>
                  <a:srgbClr val="b9efee"/>
                </a:solidFill>
                <a:latin typeface="Garamond"/>
              </a:rPr>
              <a:t>uroczyste posiedzenia Sejmu i Senatu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Sprawozdanie stenograficzne z uroczystego zgromadzenia posłów i senatorów w związku z wizytą Jego Świątobliwości Papieża Jana Pawła II w Sejmie i Senacie Rzeczypospolitej Polskiej w dn. 11 czerwca 1999 r. Kancelaria Sejmu 199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Mowy parlamentarne polskie od 1989 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gromadzenie posłów i senatorów 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(temat nie występuje w jhp B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Sejm (1997-2001) - źródł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Senat RP (1997-2001) - źródł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Jan Paweł II (papież; 1920-2005) a parlament – Pols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Mowy i homilie papiesk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Jan Paweł II (papież; 1920-2005) - podróże apostolskie – Pols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b9efee"/>
                </a:solidFill>
                <a:latin typeface="Garamond"/>
              </a:rPr>
              <a:t>Wzorce indeksowania w jhp BS:</a:t>
            </a:r>
            <a:br>
              <a:rPr sz="3600"/>
            </a:br>
            <a:r>
              <a:rPr b="1" lang="pl-PL" sz="3600" spc="-1" strike="noStrike">
                <a:solidFill>
                  <a:srgbClr val="b9efee"/>
                </a:solidFill>
                <a:latin typeface="Garamond"/>
              </a:rPr>
              <a:t>sprawozdania NIK, cd.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KRUS (Kasa Rolniczego Ubezpieczenia Społeczneg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Informacja o wynikach kontroli wykonania budżetu państwa w części 55 oraz planów finansowych Funduszu Emerytalno-Rentowego, Funduszu Prewencji i Rehabilitacji oraz Funduszu Administracyjnego w 1997 r. przez Kasę Rolniczego Ubezpieczenia Społecznego Najwyższa Izba Kontroli. Departament Pracy i Spraw Socjalnych Warszawa 199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Budżet państwowy – kontrola – Polska – 1997 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Kasa Rolniczego Ubezpieczenia Społecznego. Fundusz Administracyjny – kontro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Kasa Rolniczego Ubezpieczenia Społecznego. Fundusz Emerytalno-Rentowy – kontro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Kasa Rolniczego Ubezpieczenia Społecznego. Fundusz Prewencji i Rehabilitacji - kontro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b9efee"/>
                </a:solidFill>
                <a:latin typeface="Garamond"/>
              </a:rPr>
              <a:t>Wzorce indeksowania w jhp BS:</a:t>
            </a:r>
            <a:br>
              <a:rPr sz="3600"/>
            </a:br>
            <a:r>
              <a:rPr b="1" lang="pl-PL" sz="3600" spc="-1" strike="noStrike">
                <a:solidFill>
                  <a:srgbClr val="b9efee"/>
                </a:solidFill>
                <a:latin typeface="Garamond"/>
              </a:rPr>
              <a:t>wydawnictwa urzędowe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BS przyjęła odrzucony przez jhp BN termin 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Dzienniki urzędow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W BS służy on do indeksowania dzienników urzędowych centralnych, np.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Dzienniki urzędowe albańsk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Dzienniki urzędowe estońsk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Pozostałe wydawnictwa urzędowe otrzymują temat 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Wydawnictwa urzędowe z 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dopowiedzeniem językowo-etnicznym, np.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Monitor Sądowy i Gospodarcz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Wydawnictwa urzędowe polsk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Diplomatičeskij Vestni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Wydawnictwa urzędowe rosyjskie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088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b9efee"/>
                </a:solidFill>
                <a:latin typeface="Garamond"/>
              </a:rPr>
              <a:t>Problemy w stosowaniu jhp BN w BS:</a:t>
            </a:r>
            <a:br>
              <a:rPr sz="2400"/>
            </a:br>
            <a:r>
              <a:rPr b="1" lang="pl-PL" sz="2400" spc="-1" strike="noStrike">
                <a:solidFill>
                  <a:srgbClr val="b9efee"/>
                </a:solidFill>
                <a:latin typeface="Garamond"/>
              </a:rPr>
              <a:t>rozproszenie haseł, mnogość haseł z pojedynczymi licznikami. </a:t>
            </a:r>
            <a:br>
              <a:rPr sz="2400"/>
            </a:br>
            <a:r>
              <a:rPr b="1" lang="pl-PL" sz="2400" spc="-1" strike="noStrike">
                <a:solidFill>
                  <a:srgbClr val="b9efee"/>
                </a:solidFill>
                <a:latin typeface="Garamond"/>
              </a:rPr>
              <a:t>Określniki formalne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Przeciwdziałani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blokowanie haseł -&gt; likwidacja części określników formalnych i chronologiczny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Zlikwidowan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odręcznik,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odręcznik akademicki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– dla książek zagraniczny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oradnik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(ograniczenie stosowan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szkice 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Problemy w stosowaniu jhp BN w BS:</a:t>
            </a:r>
            <a:br>
              <a:rPr sz="2800"/>
            </a:b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rozproszenie haseł, mnogość haseł z pojedynczymi licznikami. Określniki chronologiczne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aramond"/>
              </a:rPr>
              <a:t>Zrezygnowano z określn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Garamond"/>
              </a:rPr>
              <a:t>- stan na... (ro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Problemy w stosowaniu jhp BN w BS:</a:t>
            </a:r>
            <a:br>
              <a:rPr sz="2800"/>
            </a:b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rozproszenie haseł, mnogość haseł z pojedynczymi licznikami. Określniki chronologiczne, cd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6876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Przykład: 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Liczni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- 18-19 w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- 19-20 w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- 19 w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- 19 w. – źródł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1901-1914 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1901-1914 r. – publicysty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1914-1918 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administrac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Zbiory Biblioteki Sejmowej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Zakres zbiorów głównych Biblioteki Sejmowej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prawo, zwłaszcza konstytucyjne, parlamentarne, samorządowe, międzynarodowe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filozofia i socjologia prawa oraz zasady tworzenia i interpretacji praw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współczesne ustroje państwowe i systemy politycz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stosunki i organizacje międzynarodow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nauki polityczne, ekonomia, histor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Problemy w stosowaniu jhp BN w BS:</a:t>
            </a:r>
            <a:br>
              <a:rPr sz="2800"/>
            </a:b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rozproszenie haseł, mnogość haseł z pojedynczymi licznikami. Określniki chronologiczne, cd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administracja – prawo – 19 w. – teks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administracja -19 w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banki – prawo – 19 w. – teks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[…]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finanse – 19 w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finanse – kontrola – 19 w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finanse – prawo – 19 w. – teks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[…]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gospodar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gospodarka – 19 w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gospodarka – 1901-1918 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000" spc="-1" strike="noStrike">
                <a:solidFill>
                  <a:srgbClr val="ffffff"/>
                </a:solidFill>
                <a:latin typeface="Garamond"/>
              </a:rPr>
              <a:t>Zabór rosyjski – gospodarka – prawo – 19 w. – teks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Garamond"/>
              </a:rPr>
              <a:t>Itp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Problemy w stosowaniu jhp BN w BS:</a:t>
            </a:r>
            <a:br>
              <a:rPr sz="2800"/>
            </a:b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rozproszenie haseł, mnogość haseł z pojedynczymi licznikami, określniki chronologiczne, cd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Czy w naukowej bibliotece parlamentarnej i prawniczej niezbędne jest aż tak szczegółowe indeksowanie zagadnień historycznych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Czy nie warto w tym przypadku usunąć określniki chronologiczne dla skomasowania informacji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Czy zlikwidowanie określników chronologicznych w haśle historycznym wpłynie istotnie na efekt wyszukiwani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Czy w erze swobodnego surfowania po Internecie nadal trzeba użytkownika „prowadzić za rękę” po bibliotecznych katalogach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Problemy w stosowaniu jhp BN w BS:</a:t>
            </a:r>
            <a:br>
              <a:rPr sz="2800"/>
            </a:b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rozproszenie haseł, mnogość haseł z pojedynczymi licznikami. Określniki chronologiczne, cd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Czy stosować określniki chronologiczn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Liczn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rawo pracy – Mołdawia – 1945-1985 r. – teks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rawo pracy – Mołdawia – 1945-1991 r. – teksty i komentar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Teoretycznie może się pojawić hasło, np.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rawo pracy – Mołdawia – od 1991 r. – teksty i komentar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Czy zblokować te hasła do jedneg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Garamond"/>
              </a:rPr>
              <a:t>Prawo pracy – Mołdawia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Stosowanie języka haseł przedmiotowych BN w Bibliotece Sejmowej:</a:t>
            </a:r>
            <a:br>
              <a:rPr sz="2800"/>
            </a:br>
            <a:r>
              <a:rPr b="1" lang="pl-PL" sz="2800" spc="-1" strike="noStrike">
                <a:solidFill>
                  <a:srgbClr val="b9efee"/>
                </a:solidFill>
                <a:latin typeface="Garamond"/>
              </a:rPr>
              <a:t>podsumowanie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Zintensyfikować prace nad bardziej szczegółowymi tematami dla piśmiennictwa stanowiącego podstawowy zakres gromadzenia zbiorów (np. problematyka europejsk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Systematycznie porządkować kartotekę hp -&gt; blokować hasła –&gt; aby zapobiegać nadmiernemu ich rozproszeni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Porządkować określniki chronologiczne mające największy wpływ na rozbicie hase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Garamond"/>
              </a:rPr>
              <a:t>Dziękujem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Zbiory Biblioteki Sejmowej, c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Zakres zbiorów Wydziału ZH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historia ruchów społecznych i myśli lewicowe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doktryny oraz międzynarodowe ruchy lewicow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historia Europy Środkowo-Wschodniej z uwzględnieniem ZSR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b9efee"/>
                </a:solidFill>
                <a:latin typeface="Garamond"/>
              </a:rPr>
              <a:t>Zbiory Biblioteki Sejmowej, c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Biblioteka gromadzi w szerokim zakresi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wydawnictwa parlamentarne i urzędow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wydawnictwa organizacji międzynarodowy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dokumenty życia politycznego dotyczące partii politycznych, związków zawodowych i organizacji młodzieżowy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Wprowadzenie jhp BN w Bibliotece Sejmowej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1993 r. - wdrożenie zintegrowanego systemu bibliotecznego ALEPH i wprowadzenie jhp B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1995 r. - wprowadzenie języka deskryptorowego jako drugiego języka informacyjno-wyszukiwawczeg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1994 -2000 r. - konwersja katalogu BS za lata 1979-199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Wprowadzenie jhp BN w Bibliotece Sejmowej, cd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Obecnie pracujemy w systemie ALEPH 5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Stosujemy format SAFO-BS, a nie MARC 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Współpraca z Biblioteką Narodow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W procesie opracowania korzystamy z następujących form prezentacji oferowanych przez Bibliotekę Narodową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witryna elektroniczna B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baza katalogowa BN w systemie INNOPA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katalogu NUK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oraz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Garamond"/>
              </a:rPr>
              <a:t>z bezpośredniego kontaktu z Pracownią Języka Haseł Przedmiotowych  BN w celu zgłoszenia propozycji nowego tematu lub uzyskania konsultacj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9efee"/>
                </a:solidFill>
                <a:latin typeface="Garamond"/>
              </a:rPr>
              <a:t>Słownictwo jhp BS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Biblioteka Sejmowa stara się w maksymalny sposób wykorzystać wszystkie możliwości, jakie daje słownik jhp B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Garamond"/>
              </a:rPr>
              <a:t>Stosowanie słownika o charakterze ogólnym w bibliotece specjalistycznej zaowocowało pewnymi różnicami w słownictwie i metodzie, które zostaną omówione poniże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blioteka Sejmow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orota Horodyska            Hanna Telega                Warszawa, czerwiec 2009 r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12:33Z</dcterms:created>
  <dc:creator>dorotah</dc:creator>
  <dc:description/>
  <dc:language>en-US</dc:language>
  <cp:lastModifiedBy>a.borowska</cp:lastModifiedBy>
  <dcterms:modified xsi:type="dcterms:W3CDTF">2009-05-28T09:55:33Z</dcterms:modified>
  <cp:revision>148</cp:revision>
  <dc:subject/>
  <dc:title>jhp BN a jhp BS</dc:title>
</cp:coreProperties>
</file>